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941-3B6A-4C4B-B45D-C7C912BF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942-A1CB-41EE-AE5E-DB64D8CB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400-989F-431F-B769-5C8DBD34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FE3-2034-4E6B-86F3-786AE218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BD80-E0F5-4577-BC2C-6A4CB2B3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AD08-9AA7-44A0-B3CC-918CB2FB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C5B1-F8DD-45D9-AC76-283A07AF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5478-D1C1-436A-B064-0BAD016D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DE5D-0AC2-41FB-A3F6-8C813DBD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EF7F-0B7D-4213-8195-0479B4FA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29E8-9F10-48F8-9B2B-3BCB8312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7D6-696D-496D-A5CE-69397FC7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B5C2-66A5-40DC-AE8E-B534E8AF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F9F2-BBD1-42D6-B2F1-61C8D093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76A2-A2CB-4DE0-B9FD-DE16C12B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E0AF-E7D7-4286-9B47-B3240F4D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D809-A714-4B17-810C-AD514C2A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5E26-3E3C-4875-AFE2-A7FD5AA7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2465-925E-491B-82D2-19CFD109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0910-8D17-4757-8F57-EE316DE8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6F7F-C151-4F79-96DA-589D5B02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8F58C-4677-4D1A-B17C-AF457AC8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725-FC03-4992-B686-F800F7CE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8A9B-9E9F-44E9-9BAC-BE4D4493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A87D-DC55-4EF6-A41D-FD625260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A5E09-CD9A-4204-B994-31D2A168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CDF8-F334-4037-ADE9-EB275E43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E1F7-4D6D-46F4-BB10-BB34496A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D6C8-A329-4A37-8808-C1A4E7D5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B68A-7B96-4FE9-B983-7EE1B763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B50CE-55AF-44AE-A6B1-C74271A9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BE8CE-127C-40B4-955A-F11C428B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D56B-2173-41BA-A865-2F5C6635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5E3-73B9-4FAF-9C15-B6917682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DBC1E-9CFB-4262-BCAD-61D47D6A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6DEC4-1D04-412F-9373-079FB6A7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79BCF-F953-4EFB-B1EB-6BC83AC8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613EC-B3B5-44A7-AFD2-6E51BB35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46045-1D57-4650-804B-0577830D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A979A-A657-40D0-B49B-F2414E52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FD0D8-F8AB-4458-A503-3DE8A248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94A2A-CA84-4A99-932E-2CB411ED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10DCC-2407-4F4A-88E7-24A06B87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852F7-2B0D-484C-97B7-50E4AF49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712-2E8B-4D18-8009-9864AB87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C190B-C2F5-4DE6-B6AB-47D46AA4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97DE5-14ED-4643-8FA8-A2E238FB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3B434-2FDE-470D-A1BA-72008ABA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BF215-636F-489E-9A3F-FADCEF99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DDB04-82B3-4C0D-A3A9-CE1F9E1F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D04BB-D012-4596-B3A3-6486B98B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12048-3FFA-4C32-90B6-14625B4D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4024A-5792-4BA4-B282-E5F81403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51BD1-E03F-4CEF-A09C-E69FC126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DFF30-0C34-435E-B97D-A19BB31F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C78-E69B-46E3-BD04-808C16BB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A16CF-FD32-4BEE-BC5F-7FFB681D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3AD-C7F7-4E83-B1D8-B06BC69B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B5D-1B24-4299-ACA7-37FF958A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4AD-ADC3-4256-83BD-FD9AB656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28A33-7A63-45C2-96E5-06B1D86153FE}" type="slidenum">
              <a:rPr b="0" lang="it-IT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41E00-ADF9-4144-B1AE-3D9F62A90A2E}" type="slidenum">
              <a:rPr b="0" lang="it-IT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E96D8-BD46-409C-BD2E-505FC3231D83}" type="slidenum">
              <a:rPr b="0" lang="it-IT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15C19-7345-45DB-9D22-A042ABF71251}" type="slidenum">
              <a:rPr b="0" lang="it-IT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1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BAC3D-BE1D-49EE-8AE6-33ED7C75E727}" type="slidenum">
              <a:rPr b="0" lang="it-IT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google.it/url?sa=i&amp;rct=j&amp;q=&amp;esrc=s&amp;source=images&amp;cd=&amp;cad=rja&amp;uact=8&amp;ved=2ahUKEwiA8Lrb4q7eAhUD3RoKHZWuA1wQjRx6BAgBEAU&amp;url=https://www.gruppogheron.it/portale/index.php&amp;psig=AOvVaw2PjmMWTgvG4Itg-Cx_uMJ7&amp;ust=1541009707682486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google.it/url?sa=i&amp;rct=j&amp;q=&amp;esrc=s&amp;source=images&amp;cd=&amp;cad=rja&amp;uact=8&amp;ved=2ahUKEwiA8Lrb4q7eAhUD3RoKHZWuA1wQjRx6BAgBEAU&amp;url=https://www.gruppogheron.it/portale/index.php&amp;psig=AOvVaw2PjmMWTgvG4Itg-Cx_uMJ7&amp;ust=1541009707682486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it/url?sa=i&amp;rct=j&amp;q=&amp;esrc=s&amp;source=images&amp;cd=&amp;cad=rja&amp;uact=8&amp;ved=2ahUKEwiA8Lrb4q7eAhUD3RoKHZWuA1wQjRx6BAgBEAU&amp;url=https://www.gruppogheron.it/portale/index.php&amp;psig=AOvVaw2PjmMWTgvG4Itg-Cx_uMJ7&amp;ust=1541009707682486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it/url?sa=i&amp;rct=j&amp;q=&amp;esrc=s&amp;source=images&amp;cd=&amp;cad=rja&amp;uact=8&amp;ved=2ahUKEwiA8Lrb4q7eAhUD3RoKHZWuA1wQjRx6BAgBEAU&amp;url=https://www.gruppogheron.it/portale/index.php&amp;psig=AOvVaw2PjmMWTgvG4Itg-Cx_uMJ7&amp;ust=1541009707682486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google.it/url?sa=i&amp;rct=j&amp;q=&amp;esrc=s&amp;source=images&amp;cd=&amp;cad=rja&amp;uact=8&amp;ved=2ahUKEwiA8Lrb4q7eAhUD3RoKHZWuA1wQjRx6BAgBEAU&amp;url=https://www.gruppogheron.it/portale/index.php&amp;psig=AOvVaw2PjmMWTgvG4Itg-Cx_uMJ7&amp;ust=1541009707682486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google.it/url?sa=i&amp;rct=j&amp;q=&amp;esrc=s&amp;source=images&amp;cd=&amp;cad=rja&amp;uact=8&amp;ved=2ahUKEwiA8Lrb4q7eAhUD3RoKHZWuA1wQjRx6BAgBEAU&amp;url=https://www.gruppogheron.it/portale/index.php&amp;psig=AOvVaw2PjmMWTgvG4Itg-Cx_uMJ7&amp;ust=1541009707682486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it/url?sa=i&amp;rct=j&amp;q=&amp;esrc=s&amp;source=images&amp;cd=&amp;cad=rja&amp;uact=8&amp;ved=2ahUKEwiA8Lrb4q7eAhUD3RoKHZWuA1wQjRx6BAgBEAU&amp;url=https://www.gruppogheron.it/portale/index.php&amp;psig=AOvVaw2PjmMWTgvG4Itg-Cx_uMJ7&amp;ust=1541009707682486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google.it/url?sa=i&amp;rct=j&amp;q=&amp;esrc=s&amp;source=images&amp;cd=&amp;cad=rja&amp;uact=8&amp;ved=2ahUKEwiA8Lrb4q7eAhUD3RoKHZWuA1wQjRx6BAgBEAU&amp;url=https://www.gruppogheron.it/portale/index.php&amp;psig=AOvVaw2PjmMWTgvG4Itg-Cx_uMJ7&amp;ust=1541009707682486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3"/>
          <p:cNvSpPr/>
          <p:nvPr/>
        </p:nvSpPr>
        <p:spPr>
          <a:xfrm>
            <a:off x="93600" y="2597040"/>
            <a:ext cx="1198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09600" y="2813040"/>
            <a:ext cx="119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6659640" y="630864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8360" y="2204640"/>
            <a:ext cx="795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6000" spc="-1" strike="noStrike">
                <a:solidFill>
                  <a:srgbClr val="8d2853"/>
                </a:solidFill>
                <a:latin typeface="Trebuchet MS"/>
              </a:rPr>
              <a:t>	</a:t>
            </a:r>
            <a:r>
              <a:rPr b="1" lang="it-IT" sz="3600" spc="-1" strike="noStrike">
                <a:solidFill>
                  <a:srgbClr val="8d2853"/>
                </a:solidFill>
                <a:latin typeface="Trebuchet MS"/>
              </a:rPr>
              <a:t>Dirigere una RSA facendo coaching per i team che devono gestire Ospiti complessi con fragilità cognitiv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Marcello Cao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Direttore RSA San Matteo - Nichelino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Immagine 10" descr="Risultati immagini per gher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00" y="212760"/>
            <a:ext cx="3521160" cy="1278000"/>
          </a:xfrm>
          <a:prstGeom prst="rect">
            <a:avLst/>
          </a:prstGeom>
          <a:ln w="0">
            <a:noFill/>
          </a:ln>
        </p:spPr>
      </p:pic>
      <p:sp>
        <p:nvSpPr>
          <p:cNvPr id="270" name="CasellaDiTesto 7"/>
          <p:cNvSpPr/>
          <p:nvPr/>
        </p:nvSpPr>
        <p:spPr>
          <a:xfrm>
            <a:off x="4788000" y="593640"/>
            <a:ext cx="32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rebuchet MS"/>
              </a:rPr>
              <a:t>31 gennaio 2020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93600" y="2597040"/>
            <a:ext cx="1198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309600" y="2813040"/>
            <a:ext cx="119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659640" y="630864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97000" y="1379520"/>
            <a:ext cx="8353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Coaching come suppor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Equilibri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=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Cli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=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Possibilità di miglioramen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1" name="Immagine 10" descr="Risultati immagini per gheron"/>
          <p:cNvPicPr/>
          <p:nvPr/>
        </p:nvPicPr>
        <p:blipFill>
          <a:blip r:embed="rId1"/>
          <a:stretch/>
        </p:blipFill>
        <p:spPr>
          <a:xfrm>
            <a:off x="93600" y="39600"/>
            <a:ext cx="2102040" cy="762120"/>
          </a:xfrm>
          <a:prstGeom prst="rect">
            <a:avLst/>
          </a:prstGeom>
          <a:ln w="0">
            <a:noFill/>
          </a:ln>
        </p:spPr>
      </p:pic>
      <p:sp>
        <p:nvSpPr>
          <p:cNvPr id="342" name="CasellaDiTesto 10"/>
          <p:cNvSpPr/>
          <p:nvPr/>
        </p:nvSpPr>
        <p:spPr>
          <a:xfrm>
            <a:off x="4211640" y="630360"/>
            <a:ext cx="606600" cy="368280"/>
          </a:xfrm>
          <a:prstGeom prst="rect">
            <a:avLst/>
          </a:prstGeom>
          <a:solidFill>
            <a:srgbClr val="f49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Trebuchet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Rettangolo 2"/>
          <p:cNvSpPr/>
          <p:nvPr/>
        </p:nvSpPr>
        <p:spPr>
          <a:xfrm>
            <a:off x="5345640" y="74628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rebuchet MS"/>
              </a:rPr>
              <a:t>31 gennaio 2020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Freccia in giù 1"/>
          <p:cNvSpPr/>
          <p:nvPr/>
        </p:nvSpPr>
        <p:spPr>
          <a:xfrm>
            <a:off x="4321080" y="2238480"/>
            <a:ext cx="387360" cy="82368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3"/>
          <p:cNvSpPr/>
          <p:nvPr/>
        </p:nvSpPr>
        <p:spPr>
          <a:xfrm>
            <a:off x="93600" y="2597040"/>
            <a:ext cx="1198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09600" y="2813040"/>
            <a:ext cx="119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6659640" y="630864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CasellaDiTesto 1"/>
          <p:cNvSpPr/>
          <p:nvPr/>
        </p:nvSpPr>
        <p:spPr>
          <a:xfrm>
            <a:off x="4714920" y="628560"/>
            <a:ext cx="32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rebuchet MS"/>
              </a:rPr>
              <a:t>31 gennaio 2020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Immagine 10" descr="Risultati immagini per gher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00" y="39600"/>
            <a:ext cx="2102040" cy="762120"/>
          </a:xfrm>
          <a:prstGeom prst="rect">
            <a:avLst/>
          </a:prstGeom>
          <a:ln w="0">
            <a:noFill/>
          </a:ln>
        </p:spPr>
      </p:pic>
      <p:sp>
        <p:nvSpPr>
          <p:cNvPr id="277" name="CasellaDiTesto 3"/>
          <p:cNvSpPr/>
          <p:nvPr/>
        </p:nvSpPr>
        <p:spPr>
          <a:xfrm>
            <a:off x="4179960" y="654120"/>
            <a:ext cx="534960" cy="368280"/>
          </a:xfrm>
          <a:prstGeom prst="rect">
            <a:avLst/>
          </a:prstGeom>
          <a:solidFill>
            <a:srgbClr val="f49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8360" y="1677600"/>
            <a:ext cx="7959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Prendersi cura delle persone fragil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richiede  che si operi in un contesto lavorativo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«sano e il più possibile sereno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«solidale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«non conflittuale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Come costruire, mantenere, formare un’organizzazione sana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93600" y="2597040"/>
            <a:ext cx="1198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9600" y="2813040"/>
            <a:ext cx="119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6659640" y="630864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CasellaDiTesto 1"/>
          <p:cNvSpPr/>
          <p:nvPr/>
        </p:nvSpPr>
        <p:spPr>
          <a:xfrm>
            <a:off x="4767120" y="708120"/>
            <a:ext cx="32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rebuchet MS"/>
              </a:rPr>
              <a:t>31 gennaio 2020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4" name="Immagine 10" descr="Risultati immagini per gher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00" y="39600"/>
            <a:ext cx="2102040" cy="762120"/>
          </a:xfrm>
          <a:prstGeom prst="rect">
            <a:avLst/>
          </a:prstGeom>
          <a:ln w="0">
            <a:noFill/>
          </a:ln>
        </p:spPr>
      </p:pic>
      <p:sp>
        <p:nvSpPr>
          <p:cNvPr id="285" name="CasellaDiTesto 3"/>
          <p:cNvSpPr/>
          <p:nvPr/>
        </p:nvSpPr>
        <p:spPr>
          <a:xfrm>
            <a:off x="4232160" y="536400"/>
            <a:ext cx="534960" cy="368280"/>
          </a:xfrm>
          <a:prstGeom prst="rect">
            <a:avLst/>
          </a:prstGeom>
          <a:solidFill>
            <a:srgbClr val="f49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8360" y="1677600"/>
            <a:ext cx="7959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L’organizzazione è fatta da persone ed è quindi un organismo viven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La sua costituzione dipende da diversi fattori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Economico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Social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Individual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Dai suoi rapporti interni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93600" y="2597040"/>
            <a:ext cx="1198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09600" y="2813040"/>
            <a:ext cx="119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6659640" y="630864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Immagine 10" descr="Risultati immagini per gher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00" y="39600"/>
            <a:ext cx="210204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CasellaDiTesto 12"/>
          <p:cNvSpPr/>
          <p:nvPr/>
        </p:nvSpPr>
        <p:spPr>
          <a:xfrm>
            <a:off x="4179960" y="512640"/>
            <a:ext cx="534960" cy="398880"/>
          </a:xfrm>
          <a:prstGeom prst="rect">
            <a:avLst/>
          </a:prstGeom>
          <a:solidFill>
            <a:srgbClr val="f49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Rettangolo 2"/>
          <p:cNvSpPr/>
          <p:nvPr/>
        </p:nvSpPr>
        <p:spPr>
          <a:xfrm>
            <a:off x="5345640" y="69228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rebuchet MS"/>
              </a:rPr>
              <a:t>31 gennaio 2020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8360" y="1677600"/>
            <a:ext cx="7959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Da una sua equilibrata costruzione dipen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404040"/>
                </a:solidFill>
                <a:latin typeface="Trebuchet MS"/>
              </a:rPr>
              <a:t>Il </a:t>
            </a:r>
            <a:r>
              <a:rPr b="1" i="1" lang="it-IT" sz="1900" spc="-1" strike="noStrike">
                <a:solidFill>
                  <a:srgbClr val="404040"/>
                </a:solidFill>
                <a:latin typeface="Trebuchet MS"/>
              </a:rPr>
              <a:t>clima organizzativo</a:t>
            </a:r>
            <a:r>
              <a:rPr b="0" lang="it-IT" sz="1900" spc="-1" strike="noStrike">
                <a:solidFill>
                  <a:srgbClr val="404040"/>
                </a:solidFill>
                <a:latin typeface="Trebuchet MS"/>
              </a:rPr>
              <a:t> rappresenta lo stato di salute di un contesto lavorativo, la sua qualità è capace di condizionare l’andamento delle attività aziendali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è in grado di generare un circol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Vizios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o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Virtuos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Freccia in giù 14"/>
          <p:cNvSpPr/>
          <p:nvPr/>
        </p:nvSpPr>
        <p:spPr>
          <a:xfrm>
            <a:off x="4392720" y="2133720"/>
            <a:ext cx="215640" cy="4633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3"/>
          <p:cNvSpPr/>
          <p:nvPr/>
        </p:nvSpPr>
        <p:spPr>
          <a:xfrm>
            <a:off x="93600" y="2597040"/>
            <a:ext cx="1198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09600" y="2813040"/>
            <a:ext cx="119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659640" y="630864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65040" y="1130400"/>
            <a:ext cx="835344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clima organizzativo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Trebuchet MS"/>
              </a:rPr>
              <a:t>variabili organizzative quali:</a:t>
            </a:r>
            <a:r>
              <a:rPr b="1" i="1" lang="it-IT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800" spc="-1" strike="noStrike">
                <a:solidFill>
                  <a:srgbClr val="404040"/>
                </a:solidFill>
                <a:latin typeface="Trebuchet MS"/>
              </a:rPr>
              <a:t>la struttura organizzativa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800" spc="-1" strike="noStrike">
                <a:solidFill>
                  <a:srgbClr val="404040"/>
                </a:solidFill>
                <a:latin typeface="Trebuchet MS"/>
              </a:rPr>
              <a:t>l rapporto con i colleghi e con i superiori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800" spc="-1" strike="noStrike">
                <a:solidFill>
                  <a:srgbClr val="404040"/>
                </a:solidFill>
                <a:latin typeface="Trebuchet MS"/>
              </a:rPr>
              <a:t>il carico di lavoro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800" spc="-1" strike="noStrike">
                <a:solidFill>
                  <a:srgbClr val="404040"/>
                </a:solidFill>
                <a:latin typeface="Trebuchet MS"/>
              </a:rPr>
              <a:t>gli stili gestional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Trebuchet MS"/>
              </a:rPr>
              <a:t>Variabili soggettiv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motivazion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soddisfazione lavorativ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1" name="Immagine 10" descr="Risultati immagini per gher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00" y="39600"/>
            <a:ext cx="21020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CasellaDiTesto 10"/>
          <p:cNvSpPr/>
          <p:nvPr/>
        </p:nvSpPr>
        <p:spPr>
          <a:xfrm>
            <a:off x="4216320" y="568440"/>
            <a:ext cx="474840" cy="398880"/>
          </a:xfrm>
          <a:prstGeom prst="rect">
            <a:avLst/>
          </a:prstGeom>
          <a:solidFill>
            <a:srgbClr val="f49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Rettangolo 2"/>
          <p:cNvSpPr/>
          <p:nvPr/>
        </p:nvSpPr>
        <p:spPr>
          <a:xfrm>
            <a:off x="5346720" y="74628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rebuchet MS"/>
              </a:rPr>
              <a:t>31 gennaio 2020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93600" y="2597040"/>
            <a:ext cx="1198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9600" y="2813040"/>
            <a:ext cx="119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659640" y="630864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97000" y="1217520"/>
            <a:ext cx="835344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800" spc="-1" strike="noStrike">
                <a:solidFill>
                  <a:srgbClr val="404040"/>
                </a:solidFill>
                <a:latin typeface="Trebuchet MS"/>
              </a:rPr>
              <a:t>Per costruire e mantenere il benessere organizzativo, tra le varie «attenzioni» c’è quella di prevenir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800" spc="-1" strike="noStrike">
                <a:solidFill>
                  <a:srgbClr val="404040"/>
                </a:solidFill>
                <a:latin typeface="Trebuchet MS"/>
              </a:rPr>
              <a:t>Il </a:t>
            </a:r>
            <a:r>
              <a:rPr b="1" i="1" lang="it-IT" sz="1800" spc="-1" strike="noStrike">
                <a:solidFill>
                  <a:srgbClr val="404040"/>
                </a:solidFill>
                <a:latin typeface="Trebuchet MS"/>
              </a:rPr>
              <a:t>burnou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0" i="1" lang="it-IT" sz="1800" spc="-1" strike="noStrike">
                <a:solidFill>
                  <a:srgbClr val="404040"/>
                </a:solidFill>
                <a:latin typeface="Trebuchet MS"/>
              </a:rPr>
              <a:t>esaurimento emotivo, depersonalizzazione, cinismo, insoddisfazione, frustrazione, deterioramento del benessere, insonnia, sintomi psicosomatici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800" spc="-1" strike="noStrike">
                <a:solidFill>
                  <a:srgbClr val="404040"/>
                </a:solidFill>
                <a:latin typeface="Trebuchet MS"/>
              </a:rPr>
              <a:t>COME EVITARL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800" spc="-1" strike="noStrike">
                <a:solidFill>
                  <a:srgbClr val="404040"/>
                </a:solidFill>
                <a:latin typeface="Trebuchet MS"/>
              </a:rPr>
              <a:t>Ascolto e </a:t>
            </a:r>
            <a:r>
              <a:rPr b="0" i="1" lang="it-IT" sz="1600" spc="-1" strike="noStrike">
                <a:solidFill>
                  <a:srgbClr val="404040"/>
                </a:solidFill>
                <a:latin typeface="Trebuchet MS"/>
              </a:rPr>
              <a:t>Rispetto a prescindere dai ruoli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600" spc="-1" strike="noStrike">
                <a:solidFill>
                  <a:srgbClr val="404040"/>
                </a:solidFill>
                <a:latin typeface="Trebuchet MS"/>
              </a:rPr>
              <a:t>Il riposo e la corretta fruizione delle ferie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600" spc="-1" strike="noStrike">
                <a:solidFill>
                  <a:srgbClr val="404040"/>
                </a:solidFill>
                <a:latin typeface="Trebuchet MS"/>
              </a:rPr>
              <a:t>Corretta comunicazione (evitare fraintendimenti, triangolazioni)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600" spc="-1" strike="noStrike">
                <a:solidFill>
                  <a:srgbClr val="404040"/>
                </a:solidFill>
                <a:latin typeface="Trebuchet MS"/>
              </a:rPr>
              <a:t>Chiarezza dei ruoli (evitare sovrapposizioni – organigramma e funzionigramma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600" spc="-1" strike="noStrike">
                <a:solidFill>
                  <a:srgbClr val="404040"/>
                </a:solidFill>
                <a:latin typeface="Trebuchet MS"/>
              </a:rPr>
              <a:t>Sistemi informativi efficienti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600" spc="-1" strike="noStrike">
                <a:solidFill>
                  <a:srgbClr val="404040"/>
                </a:solidFill>
                <a:latin typeface="Trebuchet MS"/>
              </a:rPr>
              <a:t>Evitare il veleno del pettegolezzo (l’informazione formale: soggetti e luoghi deputati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600" spc="-1" strike="noStrike">
                <a:solidFill>
                  <a:srgbClr val="404040"/>
                </a:solidFill>
                <a:latin typeface="Trebuchet MS"/>
              </a:rPr>
              <a:t>Organizzare una formale struttura decisionale (i luoghi deputati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9" name="Immagine 10" descr="Risultati immagini per gher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00" y="39600"/>
            <a:ext cx="2102040" cy="762120"/>
          </a:xfrm>
          <a:prstGeom prst="rect">
            <a:avLst/>
          </a:prstGeom>
          <a:ln w="0">
            <a:noFill/>
          </a:ln>
        </p:spPr>
      </p:pic>
      <p:sp>
        <p:nvSpPr>
          <p:cNvPr id="310" name="CasellaDiTesto 10"/>
          <p:cNvSpPr/>
          <p:nvPr/>
        </p:nvSpPr>
        <p:spPr>
          <a:xfrm>
            <a:off x="4211640" y="630360"/>
            <a:ext cx="606600" cy="368280"/>
          </a:xfrm>
          <a:prstGeom prst="rect">
            <a:avLst/>
          </a:prstGeom>
          <a:solidFill>
            <a:srgbClr val="f49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Rettangolo 2"/>
          <p:cNvSpPr/>
          <p:nvPr/>
        </p:nvSpPr>
        <p:spPr>
          <a:xfrm>
            <a:off x="5274360" y="74124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rebuchet MS"/>
              </a:rPr>
              <a:t>31 gennaio 2020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93600" y="2597040"/>
            <a:ext cx="1198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09600" y="2813040"/>
            <a:ext cx="119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659640" y="630864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97000" y="1379520"/>
            <a:ext cx="8353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I collaboratori più stretti della direzione spesso devono fronteggiare situazioni che potenzialmente possono essere a rischio burnou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È necessario sostenere i collaboratori al fine di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favorire il loro equilibrio emotivo e la loro crescit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In un contesto come una RSA devono evitare dinamiche competitiv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Non alimentare sentimenti di rivalsa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Ricondurre la relazione alla sua dimensione di gestion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Stimolare modalità solidali in opposizione a quelle competitiv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7" name="Immagine 10" descr="Risultati immagini per gher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00" y="39600"/>
            <a:ext cx="2102040" cy="762120"/>
          </a:xfrm>
          <a:prstGeom prst="rect">
            <a:avLst/>
          </a:prstGeom>
          <a:ln w="0">
            <a:noFill/>
          </a:ln>
        </p:spPr>
      </p:pic>
      <p:sp>
        <p:nvSpPr>
          <p:cNvPr id="318" name="CasellaDiTesto 10"/>
          <p:cNvSpPr/>
          <p:nvPr/>
        </p:nvSpPr>
        <p:spPr>
          <a:xfrm>
            <a:off x="4211640" y="630360"/>
            <a:ext cx="606600" cy="368280"/>
          </a:xfrm>
          <a:prstGeom prst="rect">
            <a:avLst/>
          </a:prstGeom>
          <a:solidFill>
            <a:srgbClr val="f49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Rettangolo 2"/>
          <p:cNvSpPr/>
          <p:nvPr/>
        </p:nvSpPr>
        <p:spPr>
          <a:xfrm>
            <a:off x="5345640" y="73656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rebuchet MS"/>
              </a:rPr>
              <a:t>31 gennaio 2020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3"/>
          <p:cNvSpPr/>
          <p:nvPr/>
        </p:nvSpPr>
        <p:spPr>
          <a:xfrm>
            <a:off x="93600" y="2597040"/>
            <a:ext cx="1198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09600" y="2813040"/>
            <a:ext cx="119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659640" y="630864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97000" y="1379520"/>
            <a:ext cx="8353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L’organizzazione è un sistema culturale: quando è sano si orienta alla soluzione dei problem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In un sistema sano Il management lavora per mettere gli altri nelle condizioni di svolgere bene il proprio lavor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Il lavoro del manager (può essere un/a coordinatore/trice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è un ruolo didattico, pedagogic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Significa lavorare per far crescere gli altri, per sostenerl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5" name="Immagine 10" descr="Risultati immagini per gher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00" y="39600"/>
            <a:ext cx="2102040" cy="762120"/>
          </a:xfrm>
          <a:prstGeom prst="rect">
            <a:avLst/>
          </a:prstGeom>
          <a:ln w="0">
            <a:noFill/>
          </a:ln>
        </p:spPr>
      </p:pic>
      <p:sp>
        <p:nvSpPr>
          <p:cNvPr id="326" name="CasellaDiTesto 10"/>
          <p:cNvSpPr/>
          <p:nvPr/>
        </p:nvSpPr>
        <p:spPr>
          <a:xfrm>
            <a:off x="4211640" y="630360"/>
            <a:ext cx="606600" cy="368280"/>
          </a:xfrm>
          <a:prstGeom prst="rect">
            <a:avLst/>
          </a:prstGeom>
          <a:solidFill>
            <a:srgbClr val="f49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Trebuchet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Rettangolo 2"/>
          <p:cNvSpPr/>
          <p:nvPr/>
        </p:nvSpPr>
        <p:spPr>
          <a:xfrm>
            <a:off x="5345640" y="69372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rebuchet MS"/>
              </a:rPr>
              <a:t>31 gennaio 2020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93600" y="2597040"/>
            <a:ext cx="1198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09600" y="2813040"/>
            <a:ext cx="119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659640" y="630864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97000" y="1379520"/>
            <a:ext cx="8353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Come interviene un manager - coach in  un sistema che vuole essere sano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Osserva le dinamiche di gruppo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Ascolta e dialog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Negozia per la risoluzione dei problemi e dei conflitt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Cerca di armonizzare le interazioni tra soggett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Aiuta a superare i blocchi comunicativ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Consente a ciascuno/a di esprimere al meglio le proprie potenzialit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Aiuta a capire qual è il valore dell’interdipendenz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Evita di alimentare rivalità e incomprension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Promuove una cultura fondata su principi di equità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Immagine 10" descr="Risultati immagini per gheron"/>
          <p:cNvPicPr/>
          <p:nvPr/>
        </p:nvPicPr>
        <p:blipFill>
          <a:blip r:embed="rId1"/>
          <a:stretch/>
        </p:blipFill>
        <p:spPr>
          <a:xfrm>
            <a:off x="93600" y="39600"/>
            <a:ext cx="2102040" cy="762120"/>
          </a:xfrm>
          <a:prstGeom prst="rect">
            <a:avLst/>
          </a:prstGeom>
          <a:ln w="0">
            <a:noFill/>
          </a:ln>
        </p:spPr>
      </p:pic>
      <p:sp>
        <p:nvSpPr>
          <p:cNvPr id="334" name="CasellaDiTesto 10"/>
          <p:cNvSpPr/>
          <p:nvPr/>
        </p:nvSpPr>
        <p:spPr>
          <a:xfrm>
            <a:off x="4211640" y="630360"/>
            <a:ext cx="606600" cy="368280"/>
          </a:xfrm>
          <a:prstGeom prst="rect">
            <a:avLst/>
          </a:prstGeom>
          <a:solidFill>
            <a:srgbClr val="f49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Rettangolo 2"/>
          <p:cNvSpPr/>
          <p:nvPr/>
        </p:nvSpPr>
        <p:spPr>
          <a:xfrm>
            <a:off x="5345640" y="74628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rebuchet MS"/>
              </a:rPr>
              <a:t>31 gennaio 2020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6:48:29Z</dcterms:created>
  <dc:creator>villa puricelli</dc:creator>
  <dc:description/>
  <dc:language>en-US</dc:language>
  <cp:lastModifiedBy>Marcello Cao</cp:lastModifiedBy>
  <cp:lastPrinted>2020-01-14T07:10:19Z</cp:lastPrinted>
  <dcterms:modified xsi:type="dcterms:W3CDTF">2020-01-14T16:04:44Z</dcterms:modified>
  <cp:revision>209</cp:revision>
  <dc:subject/>
  <dc:title>Clima organizzativo</dc:title>
</cp:coreProperties>
</file>