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2D419-8909-4F43-AC7B-87696C7D3AC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82010-F0C0-448A-8BF7-445EE9FCBAA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EB3C5-0860-4E50-A6F8-202718843A5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41257-883A-4138-AA09-C6BF4A9F171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25C37-E6B4-493F-BA79-70C919F1204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FD522-ADA9-4DD0-889C-8A0D20DC5E0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238" name="Text Box 2"/>
          <p:cNvSpPr/>
          <p:nvPr/>
        </p:nvSpPr>
        <p:spPr>
          <a:xfrm>
            <a:off x="75564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7D10D-CF69-4098-8240-90F6E361E25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241" name="Text Box 2"/>
          <p:cNvSpPr/>
          <p:nvPr/>
        </p:nvSpPr>
        <p:spPr>
          <a:xfrm>
            <a:off x="75564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F2AFB-5E2A-4593-8C0A-B1D05EF7E62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200" name="Text Box 2"/>
          <p:cNvSpPr/>
          <p:nvPr/>
        </p:nvSpPr>
        <p:spPr>
          <a:xfrm>
            <a:off x="1006560" y="4811760"/>
            <a:ext cx="554364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67CD0-7D86-416D-8B16-65BA08D5AD3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244" name="Text Box 2"/>
          <p:cNvSpPr/>
          <p:nvPr/>
        </p:nvSpPr>
        <p:spPr>
          <a:xfrm>
            <a:off x="75564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24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24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25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25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25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C1F20-C107-49D7-AC60-EC22C4E787A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257" name="Text Box 2"/>
          <p:cNvSpPr/>
          <p:nvPr/>
        </p:nvSpPr>
        <p:spPr>
          <a:xfrm>
            <a:off x="75564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7F722-89D4-47AF-A352-E8B58B78296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494E1-939D-4EC6-BABD-A5C10ABD084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6806F-A5DC-4289-A0E6-6E5155F61A2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2FC32-C20F-4770-8D7A-707D92332CD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8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9A041-A965-4503-B2EB-5095FDF12C9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B8153-BB88-49F2-A1F7-D1454651174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8F3FA-9E30-4B70-BFE6-8FD7972F992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92783-DF60-4408-8978-F2E3998DC60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C35EB-3421-4301-93D7-7BBC3AE8BF4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219" name="Text Box 2"/>
          <p:cNvSpPr/>
          <p:nvPr/>
        </p:nvSpPr>
        <p:spPr>
          <a:xfrm>
            <a:off x="75564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Use MME in group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4E591-9050-42F4-8625-83437D059A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0BE14-F505-472B-8A9B-1AC7540CBBF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94EF0-F996-4A6E-A6FE-5CE4E74F7CE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C7F-966F-4BD5-9274-9AECD7F0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6073-99D6-4481-8B88-5E4FB2FB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C562-B2D7-4061-9203-F887923B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2E67-5BDC-4ED5-A296-9783E91A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66F3-0702-4EE6-AA8F-C4BC1B77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C148-00B3-4E08-8766-E3D058FE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B206-A6C8-472A-8F69-DC799CC3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9F7D-DB14-454A-91BA-51B67AF4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A27E-7E77-4477-9001-7DC60F34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E72B-C984-42C4-A100-00C2737B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C52B-1047-4F2C-88E0-813FF660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CCF-08D8-4CF9-BFE6-08FE6FE0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EA65-FFFD-4404-A663-4B474467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E569-6D95-401C-B2D0-DE2FB9A1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ADD0-A124-49B8-9AA1-CF76DCAA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DCD0-A41D-4D28-B32D-0BD174E3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722F-6719-4386-BDE7-A87EAC81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F3F-2DF2-4841-9E9A-9DDB266D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80C-2EB0-4648-8783-DB79D4D7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225-5963-45FA-8F7D-49DE575F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CF84-C33F-450E-8B75-3918C8A2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F398-7E29-4EA6-9B3C-A4A6F924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E003-A5A3-4FC0-8DC2-9653D98A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3AF-7E9C-4061-B77B-7A48B904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B15F9-3D44-4744-8F4C-AD7F940BD2D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6280" y="688644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E0DE6B-B9D1-4774-9A90-2CE910677086}" type="slidenum">
              <a:rPr b="0" lang="it-IT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98280" y="216000"/>
            <a:ext cx="3646800" cy="7164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4392720" y="2340000"/>
            <a:ext cx="511164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Gli approcci farmacologici per la cura delle demenze: diversiﬁcazione degli obiettivi di cura e attenzione alla polifarmacologia; dalle prime fasi alla gestione nelle R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tt. Gianluca Is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DO Geriatria, AOU San Luigi Gonzaga di Orbass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1224000" y="826920"/>
            <a:ext cx="7715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l problema della terapia farmacolo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3527280" y="2303640"/>
            <a:ext cx="288000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onepezil, Galantamina, Rivastigmina, Meman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111640"/>
            <a:ext cx="76327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Quattro farmaci per una sola patologia in pazienti eterogen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0760" y="755640"/>
            <a:ext cx="99792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216000" y="611280"/>
            <a:ext cx="9577440" cy="1670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" descr=""/>
          <p:cNvPicPr/>
          <p:nvPr/>
        </p:nvPicPr>
        <p:blipFill>
          <a:blip r:embed="rId2"/>
          <a:stretch/>
        </p:blipFill>
        <p:spPr>
          <a:xfrm>
            <a:off x="216000" y="3402000"/>
            <a:ext cx="9577440" cy="843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216000" y="4322880"/>
            <a:ext cx="9577440" cy="1509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1846440" y="7020000"/>
            <a:ext cx="6314760" cy="4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360360" y="395280"/>
            <a:ext cx="9433080" cy="2211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1846440" y="7020000"/>
            <a:ext cx="6314760" cy="419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"/>
          <p:cNvPicPr/>
          <p:nvPr/>
        </p:nvPicPr>
        <p:blipFill>
          <a:blip r:embed="rId3"/>
          <a:stretch/>
        </p:blipFill>
        <p:spPr>
          <a:xfrm>
            <a:off x="360360" y="3978360"/>
            <a:ext cx="9433080" cy="8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1353960" y="208080"/>
            <a:ext cx="7371000" cy="693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662040" y="1081080"/>
            <a:ext cx="8756640" cy="59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ttangolo 1"/>
          <p:cNvSpPr/>
          <p:nvPr/>
        </p:nvSpPr>
        <p:spPr>
          <a:xfrm>
            <a:off x="936720" y="395280"/>
            <a:ext cx="83516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Trattamento dei sintomi non cogniti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sturbi comportamentali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tangolo 2"/>
          <p:cNvSpPr/>
          <p:nvPr/>
        </p:nvSpPr>
        <p:spPr>
          <a:xfrm>
            <a:off x="1152360" y="2163600"/>
            <a:ext cx="78487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ma di iniziare trattamenti farmacologici o non farmacologici per il distress nei pazienti aﬀetti da demenza, valutare in maniera strutturata le possibili cause del disagio e gestire quelle ambient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tangolo 3"/>
          <p:cNvSpPr/>
          <p:nvPr/>
        </p:nvSpPr>
        <p:spPr>
          <a:xfrm>
            <a:off x="1152360" y="3191040"/>
            <a:ext cx="78487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crivere farmaci antipsicotici ai pazienti affetti da demenza solo se sono a rischio di danneggiare sé stessi o gli altri o sperimentano agitazione, allucinazioni o deliri che provocano un grave disa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ttangolo 4"/>
          <p:cNvSpPr/>
          <p:nvPr/>
        </p:nvSpPr>
        <p:spPr>
          <a:xfrm>
            <a:off x="1152360" y="4178160"/>
            <a:ext cx="78487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a terapia con antipsicotici utilizzare la dose minima efficace e continuare per il più breve tempo possibile e rivalutare il paziente almeno ogni 6 settimane per verificare se la terapia è ancora necessa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ttangolo 5"/>
          <p:cNvSpPr/>
          <p:nvPr/>
        </p:nvSpPr>
        <p:spPr>
          <a:xfrm>
            <a:off x="1152360" y="5187960"/>
            <a:ext cx="78487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rrompere il trattamento con antipsicotici se il paziente non ottiene un chiaro beneficio dall’assunzione continuativa del farm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846440" y="7020000"/>
            <a:ext cx="6314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1062000" y="142920"/>
            <a:ext cx="6834240" cy="1301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5927760" y="7089840"/>
            <a:ext cx="3873600" cy="261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3"/>
          <a:stretch/>
        </p:blipFill>
        <p:spPr>
          <a:xfrm>
            <a:off x="485640" y="1757520"/>
            <a:ext cx="7990200" cy="51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ttangolo 1"/>
          <p:cNvSpPr/>
          <p:nvPr/>
        </p:nvSpPr>
        <p:spPr>
          <a:xfrm>
            <a:off x="936720" y="395280"/>
            <a:ext cx="83516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nson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2"/>
          <p:cNvSpPr/>
          <p:nvPr/>
        </p:nvSpPr>
        <p:spPr>
          <a:xfrm>
            <a:off x="1152360" y="1835280"/>
            <a:ext cx="78487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prescrivere melatonina per gestire l’insonnia nei pazienti affetti da malattia di Alzhei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846440" y="7020000"/>
            <a:ext cx="6314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863640" y="34920"/>
            <a:ext cx="8067600" cy="79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7056360" y="608040"/>
            <a:ext cx="1629000" cy="218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1390680" y="892080"/>
            <a:ext cx="71787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CasellaDiTesto 1"/>
          <p:cNvSpPr/>
          <p:nvPr/>
        </p:nvSpPr>
        <p:spPr>
          <a:xfrm>
            <a:off x="2090880" y="755640"/>
            <a:ext cx="6240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apia dei disturbi del sonno nella dem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ttore 1 3"/>
          <p:cNvSpPr/>
          <p:nvPr/>
        </p:nvSpPr>
        <p:spPr>
          <a:xfrm>
            <a:off x="2664000" y="1692360"/>
            <a:ext cx="0" cy="52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asellaDiTesto 4"/>
          <p:cNvSpPr/>
          <p:nvPr/>
        </p:nvSpPr>
        <p:spPr>
          <a:xfrm>
            <a:off x="1158120" y="2124000"/>
            <a:ext cx="637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sellaDiTesto 5"/>
          <p:cNvSpPr/>
          <p:nvPr/>
        </p:nvSpPr>
        <p:spPr>
          <a:xfrm>
            <a:off x="3025800" y="1906560"/>
            <a:ext cx="58309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de effects: dipendenza, disequilibrio, peggioramento cognitivo e interazioni con altri farm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6"/>
          <p:cNvSpPr/>
          <p:nvPr/>
        </p:nvSpPr>
        <p:spPr>
          <a:xfrm>
            <a:off x="871200" y="3059280"/>
            <a:ext cx="1118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Zolpi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asellaDiTesto 7"/>
          <p:cNvSpPr/>
          <p:nvPr/>
        </p:nvSpPr>
        <p:spPr>
          <a:xfrm>
            <a:off x="3044880" y="3059280"/>
            <a:ext cx="3006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studiato nella dem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795600" y="4149720"/>
            <a:ext cx="1270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zo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sellaDiTesto 9"/>
          <p:cNvSpPr/>
          <p:nvPr/>
        </p:nvSpPr>
        <p:spPr>
          <a:xfrm>
            <a:off x="3005280" y="4149720"/>
            <a:ext cx="58514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chi effetti collaterali e può migliorare il ritmo circadiano in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10"/>
          <p:cNvSpPr/>
          <p:nvPr/>
        </p:nvSpPr>
        <p:spPr>
          <a:xfrm>
            <a:off x="802440" y="5302080"/>
            <a:ext cx="1395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speri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asellaDiTesto 11"/>
          <p:cNvSpPr/>
          <p:nvPr/>
        </p:nvSpPr>
        <p:spPr>
          <a:xfrm>
            <a:off x="3005280" y="5187960"/>
            <a:ext cx="58514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ffetto positivo sul sonno, ma eccessivo rischio di morta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asellaDiTesto 12"/>
          <p:cNvSpPr/>
          <p:nvPr/>
        </p:nvSpPr>
        <p:spPr>
          <a:xfrm>
            <a:off x="801000" y="6381720"/>
            <a:ext cx="1358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rtazap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asellaDiTesto 13"/>
          <p:cNvSpPr/>
          <p:nvPr/>
        </p:nvSpPr>
        <p:spPr>
          <a:xfrm>
            <a:off x="3005280" y="6381720"/>
            <a:ext cx="5851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no riportati alcuni benefici sul sonno nell’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nettore 1 14"/>
          <p:cNvSpPr/>
          <p:nvPr/>
        </p:nvSpPr>
        <p:spPr>
          <a:xfrm>
            <a:off x="9072720" y="1692360"/>
            <a:ext cx="0" cy="52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e 15"/>
          <p:cNvSpPr/>
          <p:nvPr/>
        </p:nvSpPr>
        <p:spPr>
          <a:xfrm>
            <a:off x="9361440" y="1979640"/>
            <a:ext cx="358920" cy="39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e 16"/>
          <p:cNvSpPr/>
          <p:nvPr/>
        </p:nvSpPr>
        <p:spPr>
          <a:xfrm>
            <a:off x="9369360" y="3019320"/>
            <a:ext cx="360360" cy="39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e 17"/>
          <p:cNvSpPr/>
          <p:nvPr/>
        </p:nvSpPr>
        <p:spPr>
          <a:xfrm>
            <a:off x="9369360" y="4157640"/>
            <a:ext cx="360360" cy="3906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e 18"/>
          <p:cNvSpPr/>
          <p:nvPr/>
        </p:nvSpPr>
        <p:spPr>
          <a:xfrm>
            <a:off x="9361440" y="5187960"/>
            <a:ext cx="358920" cy="39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e 19"/>
          <p:cNvSpPr/>
          <p:nvPr/>
        </p:nvSpPr>
        <p:spPr>
          <a:xfrm>
            <a:off x="9369360" y="6330960"/>
            <a:ext cx="360360" cy="3906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41868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The role of medications in the management of demen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360" y="2927520"/>
            <a:ext cx="9360000" cy="21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urare la malat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99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tardare la progress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99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rattare i sintomi primari e second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1123920" y="1552680"/>
            <a:ext cx="7832880" cy="5322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1943280" y="0"/>
            <a:ext cx="5595840" cy="1208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3"/>
          <a:stretch/>
        </p:blipFill>
        <p:spPr>
          <a:xfrm>
            <a:off x="6546960" y="7113600"/>
            <a:ext cx="3265200" cy="1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ttangolo 1"/>
          <p:cNvSpPr/>
          <p:nvPr/>
        </p:nvSpPr>
        <p:spPr>
          <a:xfrm>
            <a:off x="936720" y="395280"/>
            <a:ext cx="83516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Ansia e Depress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ttangolo 2"/>
          <p:cNvSpPr/>
          <p:nvPr/>
        </p:nvSpPr>
        <p:spPr>
          <a:xfrm>
            <a:off x="1224000" y="1936800"/>
            <a:ext cx="75610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prescrivere antidepressivi di routine per il trattamento della depressione lieve-moderata nei pazienti affetti da  demenza lieve-moderata, tranne quando sono indicati per un grave problema di salute mentale pre-esis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ttangolo 3"/>
          <p:cNvSpPr/>
          <p:nvPr/>
        </p:nvSpPr>
        <p:spPr>
          <a:xfrm>
            <a:off x="1224000" y="3274920"/>
            <a:ext cx="75610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iderare trattamenti psicologici per i pazienti affetti da demenza lieve-moderata con depressione o ansia di intensità lieve-moder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971640" y="65160"/>
            <a:ext cx="8137440" cy="2201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5835600" y="6948360"/>
            <a:ext cx="3898800" cy="243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3"/>
          <a:stretch/>
        </p:blipFill>
        <p:spPr>
          <a:xfrm>
            <a:off x="295200" y="2909880"/>
            <a:ext cx="9490320" cy="3173400"/>
          </a:xfrm>
          <a:prstGeom prst="rect">
            <a:avLst/>
          </a:prstGeom>
          <a:ln w="0">
            <a:noFill/>
          </a:ln>
        </p:spPr>
      </p:pic>
      <p:sp>
        <p:nvSpPr>
          <p:cNvPr id="161" name="Rettangolo 5"/>
          <p:cNvSpPr/>
          <p:nvPr/>
        </p:nvSpPr>
        <p:spPr>
          <a:xfrm>
            <a:off x="5040360" y="4614840"/>
            <a:ext cx="3492360" cy="31752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ttangolo 6"/>
          <p:cNvSpPr/>
          <p:nvPr/>
        </p:nvSpPr>
        <p:spPr>
          <a:xfrm>
            <a:off x="6072120" y="5724360"/>
            <a:ext cx="2732040" cy="316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1"/>
          <a:stretch/>
        </p:blipFill>
        <p:spPr>
          <a:xfrm>
            <a:off x="763560" y="-14400"/>
            <a:ext cx="85518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71280" y="2152800"/>
            <a:ext cx="10009440" cy="4636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1149480" y="287280"/>
            <a:ext cx="7700760" cy="16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1020600" y="82440"/>
            <a:ext cx="7829640" cy="4289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1030320" y="4371840"/>
            <a:ext cx="7819920" cy="32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701640" y="1979640"/>
            <a:ext cx="2949480" cy="1987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5238720" y="1908000"/>
            <a:ext cx="2970360" cy="208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0" y="44280"/>
            <a:ext cx="10080720" cy="16480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5256360" y="4067280"/>
            <a:ext cx="32526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iduzione dell'espressione di COX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595440" y="3995640"/>
            <a:ext cx="32511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cremento della plasticità sinap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" descr=""/>
          <p:cNvPicPr/>
          <p:nvPr/>
        </p:nvPicPr>
        <p:blipFill>
          <a:blip r:embed="rId4"/>
          <a:stretch/>
        </p:blipFill>
        <p:spPr>
          <a:xfrm>
            <a:off x="482760" y="5148360"/>
            <a:ext cx="8878680" cy="203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46080" y="2430360"/>
            <a:ext cx="9986760" cy="365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1038240" y="208080"/>
            <a:ext cx="7812000" cy="1385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3"/>
          <a:stretch/>
        </p:blipFill>
        <p:spPr>
          <a:xfrm>
            <a:off x="6946920" y="6954840"/>
            <a:ext cx="2809800" cy="24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1"/>
          <p:cNvSpPr/>
          <p:nvPr/>
        </p:nvSpPr>
        <p:spPr>
          <a:xfrm>
            <a:off x="792000" y="395280"/>
            <a:ext cx="83520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2"/>
          <p:cNvSpPr/>
          <p:nvPr/>
        </p:nvSpPr>
        <p:spPr>
          <a:xfrm>
            <a:off x="503280" y="2050920"/>
            <a:ext cx="91454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terapia con anticolinesterasici è generalmente indicata nelle fasi precoci o moderate di malat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asellaDiTesto 3"/>
          <p:cNvSpPr/>
          <p:nvPr/>
        </p:nvSpPr>
        <p:spPr>
          <a:xfrm>
            <a:off x="503280" y="2884320"/>
            <a:ext cx="9145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memantina trova indicazione nelle forme più se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asellaDiTesto 4"/>
          <p:cNvSpPr/>
          <p:nvPr/>
        </p:nvSpPr>
        <p:spPr>
          <a:xfrm>
            <a:off x="503280" y="3532320"/>
            <a:ext cx="91454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terapia farmacologica va valutata non solo sulla base della severità di malattia, ma anche sull’effi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asellaDiTesto 5"/>
          <p:cNvSpPr/>
          <p:nvPr/>
        </p:nvSpPr>
        <p:spPr>
          <a:xfrm>
            <a:off x="503280" y="4395960"/>
            <a:ext cx="91454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sintomi non cognitivi si presentano maggiormente nelle fasi avanzate, quando spesso il paziente richiede anche l’istituzion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asellaDiTesto 6"/>
          <p:cNvSpPr/>
          <p:nvPr/>
        </p:nvSpPr>
        <p:spPr>
          <a:xfrm>
            <a:off x="503280" y="5261040"/>
            <a:ext cx="91454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ieta mediterranea può essere considerata una terapia valida anche nel paziente istituzionalizzato con patologia sev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" descr=""/>
          <p:cNvPicPr/>
          <p:nvPr/>
        </p:nvPicPr>
        <p:blipFill>
          <a:blip r:embed="rId1"/>
          <a:stretch/>
        </p:blipFill>
        <p:spPr>
          <a:xfrm>
            <a:off x="1935000" y="1469880"/>
            <a:ext cx="6207120" cy="6089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434880" y="33480"/>
            <a:ext cx="9207720" cy="1365120"/>
          </a:xfrm>
          <a:prstGeom prst="rect">
            <a:avLst/>
          </a:prstGeom>
          <a:ln w="0">
            <a:noFill/>
          </a:ln>
        </p:spPr>
      </p:pic>
      <p:sp>
        <p:nvSpPr>
          <p:cNvPr id="185" name="Rettangolo 1"/>
          <p:cNvSpPr/>
          <p:nvPr/>
        </p:nvSpPr>
        <p:spPr>
          <a:xfrm>
            <a:off x="2376360" y="1636560"/>
            <a:ext cx="5765760" cy="4143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ttangolo 4"/>
          <p:cNvSpPr/>
          <p:nvPr/>
        </p:nvSpPr>
        <p:spPr>
          <a:xfrm>
            <a:off x="2376360" y="2141640"/>
            <a:ext cx="5765760" cy="4143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ttangolo 5"/>
          <p:cNvSpPr/>
          <p:nvPr/>
        </p:nvSpPr>
        <p:spPr>
          <a:xfrm>
            <a:off x="2376360" y="3203640"/>
            <a:ext cx="5765760" cy="4143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ttangolo 6"/>
          <p:cNvSpPr/>
          <p:nvPr/>
        </p:nvSpPr>
        <p:spPr>
          <a:xfrm>
            <a:off x="2376360" y="4229280"/>
            <a:ext cx="5765760" cy="5587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ttangolo 7"/>
          <p:cNvSpPr/>
          <p:nvPr/>
        </p:nvSpPr>
        <p:spPr>
          <a:xfrm>
            <a:off x="2376360" y="7093080"/>
            <a:ext cx="5765760" cy="4143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16000" y="3059280"/>
            <a:ext cx="9663120" cy="1296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5400720" y="6840360"/>
            <a:ext cx="4103640" cy="2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307800" y="19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460440" y="171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0" descr="Risultati immagini per Friedrich Nietzsche torino"/>
          <p:cNvPicPr/>
          <p:nvPr/>
        </p:nvPicPr>
        <p:blipFill>
          <a:blip r:embed="rId1"/>
          <a:stretch/>
        </p:blipFill>
        <p:spPr>
          <a:xfrm>
            <a:off x="31680" y="-133200"/>
            <a:ext cx="10049040" cy="6216480"/>
          </a:xfrm>
          <a:prstGeom prst="rect">
            <a:avLst/>
          </a:prstGeom>
          <a:ln w="0">
            <a:noFill/>
          </a:ln>
        </p:spPr>
      </p:pic>
      <p:sp>
        <p:nvSpPr>
          <p:cNvPr id="194" name="Rettangolo 5"/>
          <p:cNvSpPr/>
          <p:nvPr/>
        </p:nvSpPr>
        <p:spPr>
          <a:xfrm>
            <a:off x="460440" y="6100920"/>
            <a:ext cx="904392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ell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more è sempre un p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' 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i demenz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a anche nella demenz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è sempre un po' di rag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riedrich Nietzs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719280" y="793800"/>
            <a:ext cx="8785080" cy="60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792000" y="133200"/>
            <a:ext cx="8641080" cy="732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673200" y="324000"/>
            <a:ext cx="85676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Tipi più comuni di Demenz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673200" y="2746440"/>
            <a:ext cx="856764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zheimer's disea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appresenta la forma più comune di deme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ascular Demen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mentia with Lewy bod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DLB) è una forma di demenza che condivide alcune caratteristiche della malattia di Alzheimer e di Parki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ronto-temporal dementi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è una forma di demenza che coinvolge i lobi cerebrali frontali e temporali ed è caratterizzata da alterazioni comportamentali, emotive e del lingu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515880" y="2111400"/>
            <a:ext cx="49989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ontal Lobe: Language, planning, organising, learning tasks, regulating behaviour, initiating and stopping actions, pers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ietal Lobe: remembering the sequence of actions, body sense, calculations, sentence construction, problems interpreting visual information e.g not recognising people, locating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ccipital Lobe: Process information about colour , shapes and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mporal Lobe; Remembering recent events, learning new information, visual memory (faces) verbal memory (names) att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rcRect l="16045" t="32144" r="15161" b="11223"/>
          <a:stretch/>
        </p:blipFill>
        <p:spPr>
          <a:xfrm>
            <a:off x="5675400" y="3144960"/>
            <a:ext cx="4200480" cy="2625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647640" y="684360"/>
            <a:ext cx="85676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Differenti aree coinvolt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1363680" y="2325600"/>
            <a:ext cx="7620120" cy="30006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673200" y="622440"/>
            <a:ext cx="85676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gressione della dem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1947960" y="576360"/>
            <a:ext cx="6476760" cy="3467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1247760" y="4535640"/>
            <a:ext cx="79311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pazienti con demenza sono diversi tra loro, ma i farmaci variano poco a seconda delle fasi della malat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3T14:31:28Z</dcterms:created>
  <dc:creator>Gianluca Isaia</dc:creator>
  <dc:description/>
  <dc:language>en-US</dc:language>
  <cp:lastModifiedBy>gianluca</cp:lastModifiedBy>
  <dcterms:modified xsi:type="dcterms:W3CDTF">2020-01-30T21:11:00Z</dcterms:modified>
  <cp:revision>21</cp:revision>
  <dc:subject/>
  <dc:title>Presentazione standard di PowerPoint</dc:title>
</cp:coreProperties>
</file>