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69AAA9-887C-4709-8735-DA2DA68F84BE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8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47719F-B9C8-4B39-A221-87A9FBD65ACB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9F978F-FFE9-409F-A85B-A215F32CF5C4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8F28E7-699C-4728-B000-33A871347A97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BCD091-C622-4A70-B326-6BA21430E739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8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9D27DC-5E70-4CA4-8855-D4770ADF1088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374840" y="1336680"/>
            <a:ext cx="4809960" cy="3608280"/>
          </a:xfrm>
          <a:prstGeom prst="rect">
            <a:avLst/>
          </a:prstGeom>
          <a:ln w="0">
            <a:noFill/>
          </a:ln>
        </p:spPr>
      </p:sp>
      <p:sp>
        <p:nvSpPr>
          <p:cNvPr id="238" name="Text Box 2"/>
          <p:cNvSpPr/>
          <p:nvPr/>
        </p:nvSpPr>
        <p:spPr>
          <a:xfrm>
            <a:off x="755640" y="5145120"/>
            <a:ext cx="6048360" cy="42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8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4C6A4A-9D0A-407A-952E-E1C289217391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374840" y="1336680"/>
            <a:ext cx="4809960" cy="3608280"/>
          </a:xfrm>
          <a:prstGeom prst="rect">
            <a:avLst/>
          </a:prstGeom>
          <a:ln w="0">
            <a:noFill/>
          </a:ln>
        </p:spPr>
      </p:sp>
      <p:sp>
        <p:nvSpPr>
          <p:cNvPr id="241" name="Text Box 2"/>
          <p:cNvSpPr/>
          <p:nvPr/>
        </p:nvSpPr>
        <p:spPr>
          <a:xfrm>
            <a:off x="755640" y="5145120"/>
            <a:ext cx="6048360" cy="42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E053D4-D4BC-44A3-A2CE-C689C049A1E1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8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56FE0A-A961-49C3-A28C-1D59A9F2703C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374840" y="1336680"/>
            <a:ext cx="4809960" cy="3608280"/>
          </a:xfrm>
          <a:prstGeom prst="rect">
            <a:avLst/>
          </a:prstGeom>
          <a:ln w="0">
            <a:noFill/>
          </a:ln>
        </p:spPr>
      </p:sp>
      <p:sp>
        <p:nvSpPr>
          <p:cNvPr id="244" name="Text Box 2"/>
          <p:cNvSpPr/>
          <p:nvPr/>
        </p:nvSpPr>
        <p:spPr>
          <a:xfrm>
            <a:off x="755640" y="5145120"/>
            <a:ext cx="6048360" cy="42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1800" cy="1440"/>
          </a:xfrm>
          <a:prstGeom prst="rect">
            <a:avLst/>
          </a:prstGeom>
          <a:ln w="0">
            <a:noFill/>
          </a:ln>
        </p:spPr>
      </p:sp>
      <p:sp>
        <p:nvSpPr>
          <p:cNvPr id="24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6720" cy="4010040"/>
          </a:xfrm>
          <a:prstGeom prst="rect">
            <a:avLst/>
          </a:prstGeom>
          <a:ln w="0">
            <a:noFill/>
          </a:ln>
        </p:spPr>
      </p:sp>
      <p:sp>
        <p:nvSpPr>
          <p:cNvPr id="248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6720" cy="4010040"/>
          </a:xfrm>
          <a:prstGeom prst="rect">
            <a:avLst/>
          </a:prstGeom>
          <a:ln w="0">
            <a:noFill/>
          </a:ln>
        </p:spPr>
      </p:sp>
      <p:sp>
        <p:nvSpPr>
          <p:cNvPr id="25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1800" cy="1440"/>
          </a:xfrm>
          <a:prstGeom prst="rect">
            <a:avLst/>
          </a:prstGeom>
          <a:ln w="0">
            <a:noFill/>
          </a:ln>
        </p:spPr>
      </p:sp>
      <p:sp>
        <p:nvSpPr>
          <p:cNvPr id="252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6720" cy="4010040"/>
          </a:xfrm>
          <a:prstGeom prst="rect">
            <a:avLst/>
          </a:prstGeom>
          <a:ln w="0">
            <a:noFill/>
          </a:ln>
        </p:spPr>
      </p:sp>
      <p:sp>
        <p:nvSpPr>
          <p:cNvPr id="254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8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E6452E-0F06-4E46-926D-BBC328F67290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374840" y="1336680"/>
            <a:ext cx="4809960" cy="3608280"/>
          </a:xfrm>
          <a:prstGeom prst="rect">
            <a:avLst/>
          </a:prstGeom>
          <a:ln w="0">
            <a:noFill/>
          </a:ln>
        </p:spPr>
      </p:sp>
      <p:sp>
        <p:nvSpPr>
          <p:cNvPr id="257" name="Text Box 2"/>
          <p:cNvSpPr/>
          <p:nvPr/>
        </p:nvSpPr>
        <p:spPr>
          <a:xfrm>
            <a:off x="755640" y="5145120"/>
            <a:ext cx="6048360" cy="42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8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226013-03AA-48C1-951D-B8E184FB3FA1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D7A724-D903-4EB0-8454-93E4D7094FB3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E74EC6-1543-4D74-9A42-2FE34FBBACD7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5" name="Text Box 4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8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12E56C-1EDC-4AA2-8533-62013F4F3FE7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EACDD3-EE8F-4442-995C-21ED9D7B7A81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BE955A-3B0B-436F-A322-330A229E15AD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0" name="Text Box 4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B57318-37F2-406E-92DB-4992CCE65480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06640" y="801720"/>
            <a:ext cx="5346720" cy="40100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2F7335-0CEA-42C9-8CE1-2442C0D5277C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06640" y="801720"/>
            <a:ext cx="5346720" cy="4010040"/>
          </a:xfrm>
          <a:prstGeom prst="rect">
            <a:avLst/>
          </a:prstGeom>
          <a:ln w="0">
            <a:noFill/>
          </a:ln>
        </p:spPr>
      </p:sp>
      <p:sp>
        <p:nvSpPr>
          <p:cNvPr id="216" name="Text Box 2"/>
          <p:cNvSpPr/>
          <p:nvPr/>
        </p:nvSpPr>
        <p:spPr>
          <a:xfrm>
            <a:off x="75564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Use MME in group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7CA620-1BD5-465F-8B75-1242FDB45B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D27DBB-6868-4EF3-A9D9-820C144715C9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3EF5A1-B503-4409-AEB6-F004D6E41005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8BA3EA-D9B9-4849-8572-AAC3F3FBA3BF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06640" y="801720"/>
            <a:ext cx="5346720" cy="4010040"/>
          </a:xfrm>
          <a:prstGeom prst="rect">
            <a:avLst/>
          </a:prstGeom>
          <a:ln w="0">
            <a:noFill/>
          </a:ln>
        </p:spPr>
      </p:sp>
      <p:sp>
        <p:nvSpPr>
          <p:cNvPr id="226" name="Text Box 2"/>
          <p:cNvSpPr/>
          <p:nvPr/>
        </p:nvSpPr>
        <p:spPr>
          <a:xfrm>
            <a:off x="1006560" y="4811760"/>
            <a:ext cx="554364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910C-58FF-4A25-9981-7E19FAD95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F414-5BDE-43E0-9391-D5FE1C4E5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ADFA-9B16-4DB0-A6B4-CCD2A814E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F77E-A2A9-4D47-A64A-DE54ACFE2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CCD91-790E-4F5E-8603-9CD24E63F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0896C-CBBE-4CA8-9750-DAE4CAF25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1340C-CEBF-403B-B4B1-87D3B7344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5113A-489B-4E33-9D6B-E9D5E4630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8EF61-D996-4D7C-ADD3-A946A0450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02397-4632-4CF0-9159-58D816603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1D790-B8AE-49B6-B176-91AB5169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D690-8BF2-42B3-8C02-380FE53A6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E9D18-BFF3-482C-92DF-E54624C4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90C93-6401-48ED-ACFF-018CC42D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CA381-D80F-4A6C-A3A1-397FC67C0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37486-83F1-4962-A6D6-EEDDDC097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6C3A4-6B0B-413E-83B7-479519B86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72F5-1F87-446F-9C4F-618692654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B46C-DC2F-4CE1-BB2F-D3597B366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0022-9720-401D-AAC9-D97A29657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4C7B-F7B9-4264-A945-122BA170B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F7D9-0B9F-473D-B7C0-9D0F606E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156C-DD8D-47CD-8E1E-E11256BC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45E8-EF75-4BE8-8706-9164D4DD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B6ABA9-B1EB-44D2-9A7D-9D94CDA2C9D7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332640" indent="-332640">
              <a:spcBef>
                <a:spcPts val="8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332640" indent="-33264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332640" indent="-332640">
              <a:spcBef>
                <a:spcPts val="8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332640" indent="-332640"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332640" indent="-332640"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332640" indent="-332640"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6280" y="688644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1FE3C2B-4547-48D1-BABF-C70F70FB9837}" type="slidenum">
              <a:rPr b="0" lang="it-IT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98280" y="216000"/>
            <a:ext cx="3646800" cy="7164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2"/>
          <p:cNvSpPr/>
          <p:nvPr/>
        </p:nvSpPr>
        <p:spPr>
          <a:xfrm>
            <a:off x="4392720" y="2340000"/>
            <a:ext cx="5111640" cy="30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Gli approcci farmacologici per la cura delle demenze: diversiﬁcazione degli obiettivi di cura e attenzione alla polifarmacologia; dalle prime fasi alla gestione nelle R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ott. Gianluca Isa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CDO Geriatria, AOU San Luigi Gonzaga di Orbass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1224000" y="826920"/>
            <a:ext cx="7715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l problema della terapia farmacolo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"/>
          <p:cNvSpPr/>
          <p:nvPr/>
        </p:nvSpPr>
        <p:spPr>
          <a:xfrm>
            <a:off x="3527280" y="2303640"/>
            <a:ext cx="2880000" cy="19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onepezil, Galantamina, Rivastigmina, Memant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1295280" y="5111640"/>
            <a:ext cx="763272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Quattro farmaci per una sola patologia in pazienti eterogen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50760" y="755640"/>
            <a:ext cx="99792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" descr=""/>
          <p:cNvPicPr/>
          <p:nvPr/>
        </p:nvPicPr>
        <p:blipFill>
          <a:blip r:embed="rId1"/>
          <a:stretch/>
        </p:blipFill>
        <p:spPr>
          <a:xfrm>
            <a:off x="216000" y="611280"/>
            <a:ext cx="9577440" cy="1670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" descr=""/>
          <p:cNvPicPr/>
          <p:nvPr/>
        </p:nvPicPr>
        <p:blipFill>
          <a:blip r:embed="rId2"/>
          <a:stretch/>
        </p:blipFill>
        <p:spPr>
          <a:xfrm>
            <a:off x="216000" y="3402000"/>
            <a:ext cx="9577440" cy="843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3"/>
          <a:stretch/>
        </p:blipFill>
        <p:spPr>
          <a:xfrm>
            <a:off x="216000" y="4322880"/>
            <a:ext cx="9577440" cy="1509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4"/>
          <a:stretch/>
        </p:blipFill>
        <p:spPr>
          <a:xfrm>
            <a:off x="1846440" y="7020000"/>
            <a:ext cx="6314760" cy="41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"/>
          <p:cNvPicPr/>
          <p:nvPr/>
        </p:nvPicPr>
        <p:blipFill>
          <a:blip r:embed="rId1"/>
          <a:stretch/>
        </p:blipFill>
        <p:spPr>
          <a:xfrm>
            <a:off x="360360" y="395280"/>
            <a:ext cx="9433080" cy="22114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"/>
          <p:cNvPicPr/>
          <p:nvPr/>
        </p:nvPicPr>
        <p:blipFill>
          <a:blip r:embed="rId2"/>
          <a:stretch/>
        </p:blipFill>
        <p:spPr>
          <a:xfrm>
            <a:off x="1846440" y="7020000"/>
            <a:ext cx="6314760" cy="419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" descr=""/>
          <p:cNvPicPr/>
          <p:nvPr/>
        </p:nvPicPr>
        <p:blipFill>
          <a:blip r:embed="rId3"/>
          <a:stretch/>
        </p:blipFill>
        <p:spPr>
          <a:xfrm>
            <a:off x="360360" y="3978360"/>
            <a:ext cx="9433080" cy="80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" descr=""/>
          <p:cNvPicPr/>
          <p:nvPr/>
        </p:nvPicPr>
        <p:blipFill>
          <a:blip r:embed="rId1"/>
          <a:stretch/>
        </p:blipFill>
        <p:spPr>
          <a:xfrm>
            <a:off x="1353960" y="208080"/>
            <a:ext cx="7371000" cy="693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2"/>
          <a:stretch/>
        </p:blipFill>
        <p:spPr>
          <a:xfrm>
            <a:off x="662040" y="1081080"/>
            <a:ext cx="8756640" cy="592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ttangolo 1"/>
          <p:cNvSpPr/>
          <p:nvPr/>
        </p:nvSpPr>
        <p:spPr>
          <a:xfrm>
            <a:off x="936720" y="395280"/>
            <a:ext cx="835164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Trattamento dei sintomi non cognitiv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Disturbi comportamentali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ttangolo 2"/>
          <p:cNvSpPr/>
          <p:nvPr/>
        </p:nvSpPr>
        <p:spPr>
          <a:xfrm>
            <a:off x="1152360" y="2163600"/>
            <a:ext cx="784872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ima di iniziare trattamenti farmacologici o non farmacologici per il distress nei pazienti aﬀetti da demenza, valutare in maniera strutturata le possibili cause del disagio e gestire quelle ambient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ttangolo 3"/>
          <p:cNvSpPr/>
          <p:nvPr/>
        </p:nvSpPr>
        <p:spPr>
          <a:xfrm>
            <a:off x="1152360" y="3191040"/>
            <a:ext cx="784872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escrivere farmaci antipsicotici ai pazienti affetti da demenza solo se sono a rischio di danneggiare sé stessi o gli altri o sperimentano agitazione, allucinazioni o deliri che provocano un grave disag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ttangolo 4"/>
          <p:cNvSpPr/>
          <p:nvPr/>
        </p:nvSpPr>
        <p:spPr>
          <a:xfrm>
            <a:off x="1152360" y="4178160"/>
            <a:ext cx="784872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ella terapia con antipsicotici utilizzare la dose minima efficace e continuare per il più breve tempo possibile e rivalutare il paziente almeno ogni 6 settimane per verificare se la terapia è ancora necessar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ttangolo 5"/>
          <p:cNvSpPr/>
          <p:nvPr/>
        </p:nvSpPr>
        <p:spPr>
          <a:xfrm>
            <a:off x="1152360" y="5187960"/>
            <a:ext cx="784872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terrompere il trattamento con antipsicotici se il paziente non ottiene un chiaro beneficio dall’assunzione continuativa del farma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1846440" y="7020000"/>
            <a:ext cx="6314760" cy="4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" descr=""/>
          <p:cNvPicPr/>
          <p:nvPr/>
        </p:nvPicPr>
        <p:blipFill>
          <a:blip r:embed="rId1"/>
          <a:stretch/>
        </p:blipFill>
        <p:spPr>
          <a:xfrm>
            <a:off x="1062000" y="142920"/>
            <a:ext cx="6834240" cy="1301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5927760" y="7089840"/>
            <a:ext cx="3873600" cy="261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"/>
          <p:cNvPicPr/>
          <p:nvPr/>
        </p:nvPicPr>
        <p:blipFill>
          <a:blip r:embed="rId3"/>
          <a:stretch/>
        </p:blipFill>
        <p:spPr>
          <a:xfrm>
            <a:off x="485640" y="1757520"/>
            <a:ext cx="7990200" cy="519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ttangolo 1"/>
          <p:cNvSpPr/>
          <p:nvPr/>
        </p:nvSpPr>
        <p:spPr>
          <a:xfrm>
            <a:off x="936720" y="395280"/>
            <a:ext cx="835164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Inson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ttangolo 2"/>
          <p:cNvSpPr/>
          <p:nvPr/>
        </p:nvSpPr>
        <p:spPr>
          <a:xfrm>
            <a:off x="1152360" y="1835280"/>
            <a:ext cx="784872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on prescrivere melatonina per gestire l’insonnia nei pazienti affetti da malattia di Alzheim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1846440" y="7020000"/>
            <a:ext cx="6314760" cy="4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863640" y="34920"/>
            <a:ext cx="8067600" cy="792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"/>
          <p:cNvPicPr/>
          <p:nvPr/>
        </p:nvPicPr>
        <p:blipFill>
          <a:blip r:embed="rId2"/>
          <a:stretch/>
        </p:blipFill>
        <p:spPr>
          <a:xfrm>
            <a:off x="7056360" y="608040"/>
            <a:ext cx="1629000" cy="218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"/>
          <p:cNvPicPr/>
          <p:nvPr/>
        </p:nvPicPr>
        <p:blipFill>
          <a:blip r:embed="rId3"/>
          <a:stretch/>
        </p:blipFill>
        <p:spPr>
          <a:xfrm>
            <a:off x="1390680" y="892080"/>
            <a:ext cx="717876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CasellaDiTesto 1"/>
          <p:cNvSpPr/>
          <p:nvPr/>
        </p:nvSpPr>
        <p:spPr>
          <a:xfrm>
            <a:off x="2090880" y="755640"/>
            <a:ext cx="62402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erapia dei disturbi del sonno nella dem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onnettore 1 3"/>
          <p:cNvSpPr/>
          <p:nvPr/>
        </p:nvSpPr>
        <p:spPr>
          <a:xfrm>
            <a:off x="2664000" y="1692360"/>
            <a:ext cx="0" cy="52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CasellaDiTesto 4"/>
          <p:cNvSpPr/>
          <p:nvPr/>
        </p:nvSpPr>
        <p:spPr>
          <a:xfrm>
            <a:off x="1158120" y="2124000"/>
            <a:ext cx="6379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D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CasellaDiTesto 5"/>
          <p:cNvSpPr/>
          <p:nvPr/>
        </p:nvSpPr>
        <p:spPr>
          <a:xfrm>
            <a:off x="3025800" y="1906560"/>
            <a:ext cx="583092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ide effects: dipendenza, disequilibrio, peggioramento cognitivo e interazioni con altri farma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asellaDiTesto 6"/>
          <p:cNvSpPr/>
          <p:nvPr/>
        </p:nvSpPr>
        <p:spPr>
          <a:xfrm>
            <a:off x="871200" y="3059280"/>
            <a:ext cx="11181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Zolpid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CasellaDiTesto 7"/>
          <p:cNvSpPr/>
          <p:nvPr/>
        </p:nvSpPr>
        <p:spPr>
          <a:xfrm>
            <a:off x="3044880" y="3059280"/>
            <a:ext cx="3006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on studiato nella deme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asellaDiTesto 8"/>
          <p:cNvSpPr/>
          <p:nvPr/>
        </p:nvSpPr>
        <p:spPr>
          <a:xfrm>
            <a:off x="795600" y="4149720"/>
            <a:ext cx="12704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razo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CasellaDiTesto 9"/>
          <p:cNvSpPr/>
          <p:nvPr/>
        </p:nvSpPr>
        <p:spPr>
          <a:xfrm>
            <a:off x="3005280" y="4149720"/>
            <a:ext cx="585144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ochi effetti collaterali e può migliorare il ritmo circadiano in 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CasellaDiTesto 10"/>
          <p:cNvSpPr/>
          <p:nvPr/>
        </p:nvSpPr>
        <p:spPr>
          <a:xfrm>
            <a:off x="802440" y="5302080"/>
            <a:ext cx="1395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isperi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CasellaDiTesto 11"/>
          <p:cNvSpPr/>
          <p:nvPr/>
        </p:nvSpPr>
        <p:spPr>
          <a:xfrm>
            <a:off x="3005280" y="5187960"/>
            <a:ext cx="585144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ffetto positivo sul sonno, ma eccessivo rischio di mortal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CasellaDiTesto 12"/>
          <p:cNvSpPr/>
          <p:nvPr/>
        </p:nvSpPr>
        <p:spPr>
          <a:xfrm>
            <a:off x="801000" y="6381720"/>
            <a:ext cx="1358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irtazap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CasellaDiTesto 13"/>
          <p:cNvSpPr/>
          <p:nvPr/>
        </p:nvSpPr>
        <p:spPr>
          <a:xfrm>
            <a:off x="3005280" y="6381720"/>
            <a:ext cx="58514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ono riportati alcuni benefici sul sonno nell’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Connettore 1 14"/>
          <p:cNvSpPr/>
          <p:nvPr/>
        </p:nvSpPr>
        <p:spPr>
          <a:xfrm>
            <a:off x="9072720" y="1692360"/>
            <a:ext cx="0" cy="52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e 15"/>
          <p:cNvSpPr/>
          <p:nvPr/>
        </p:nvSpPr>
        <p:spPr>
          <a:xfrm>
            <a:off x="9361440" y="1979640"/>
            <a:ext cx="358920" cy="390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e 16"/>
          <p:cNvSpPr/>
          <p:nvPr/>
        </p:nvSpPr>
        <p:spPr>
          <a:xfrm>
            <a:off x="9369360" y="3019320"/>
            <a:ext cx="360360" cy="390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e 17"/>
          <p:cNvSpPr/>
          <p:nvPr/>
        </p:nvSpPr>
        <p:spPr>
          <a:xfrm>
            <a:off x="9369360" y="4157640"/>
            <a:ext cx="360360" cy="390600"/>
          </a:xfrm>
          <a:prstGeom prst="ellipse">
            <a:avLst/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e 18"/>
          <p:cNvSpPr/>
          <p:nvPr/>
        </p:nvSpPr>
        <p:spPr>
          <a:xfrm>
            <a:off x="9361440" y="5187960"/>
            <a:ext cx="358920" cy="390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e 19"/>
          <p:cNvSpPr/>
          <p:nvPr/>
        </p:nvSpPr>
        <p:spPr>
          <a:xfrm>
            <a:off x="9369360" y="6330960"/>
            <a:ext cx="360360" cy="390600"/>
          </a:xfrm>
          <a:prstGeom prst="ellipse">
            <a:avLst/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" descr=""/>
          <p:cNvPicPr/>
          <p:nvPr/>
        </p:nvPicPr>
        <p:blipFill>
          <a:blip r:embed="rId1"/>
          <a:stretch/>
        </p:blipFill>
        <p:spPr>
          <a:xfrm>
            <a:off x="216000" y="3059280"/>
            <a:ext cx="9663120" cy="1296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5400720" y="6840360"/>
            <a:ext cx="4103640" cy="26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"/>
          <p:cNvPicPr/>
          <p:nvPr/>
        </p:nvPicPr>
        <p:blipFill>
          <a:blip r:embed="rId1"/>
          <a:stretch/>
        </p:blipFill>
        <p:spPr>
          <a:xfrm>
            <a:off x="1123920" y="1552680"/>
            <a:ext cx="7832880" cy="5322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"/>
          <p:cNvPicPr/>
          <p:nvPr/>
        </p:nvPicPr>
        <p:blipFill>
          <a:blip r:embed="rId2"/>
          <a:stretch/>
        </p:blipFill>
        <p:spPr>
          <a:xfrm>
            <a:off x="1943280" y="0"/>
            <a:ext cx="5595840" cy="12081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"/>
          <p:cNvPicPr/>
          <p:nvPr/>
        </p:nvPicPr>
        <p:blipFill>
          <a:blip r:embed="rId3"/>
          <a:stretch/>
        </p:blipFill>
        <p:spPr>
          <a:xfrm>
            <a:off x="6546960" y="7113600"/>
            <a:ext cx="3265200" cy="18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ttangolo 1"/>
          <p:cNvSpPr/>
          <p:nvPr/>
        </p:nvSpPr>
        <p:spPr>
          <a:xfrm>
            <a:off x="936720" y="395280"/>
            <a:ext cx="835164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Ansia e Depressi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ttangolo 2"/>
          <p:cNvSpPr/>
          <p:nvPr/>
        </p:nvSpPr>
        <p:spPr>
          <a:xfrm>
            <a:off x="1224000" y="1936800"/>
            <a:ext cx="756108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on prescrivere antidepressivi di routine per il trattamento della depressione lieve-moderata nei pazienti affetti da  demenza lieve-moderata, tranne quando sono indicati per un grave problema di salute mentale pre-esist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ttangolo 3"/>
          <p:cNvSpPr/>
          <p:nvPr/>
        </p:nvSpPr>
        <p:spPr>
          <a:xfrm>
            <a:off x="1224000" y="3274920"/>
            <a:ext cx="756108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siderare trattamenti psicologici per i pazienti affetti da demenza lieve-moderata con depressione o ansia di intensità lieve-moder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971640" y="65160"/>
            <a:ext cx="8137440" cy="22017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"/>
          <p:cNvPicPr/>
          <p:nvPr/>
        </p:nvPicPr>
        <p:blipFill>
          <a:blip r:embed="rId2"/>
          <a:stretch/>
        </p:blipFill>
        <p:spPr>
          <a:xfrm>
            <a:off x="5835600" y="6948360"/>
            <a:ext cx="3898800" cy="243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"/>
          <p:cNvPicPr/>
          <p:nvPr/>
        </p:nvPicPr>
        <p:blipFill>
          <a:blip r:embed="rId3"/>
          <a:stretch/>
        </p:blipFill>
        <p:spPr>
          <a:xfrm>
            <a:off x="295200" y="2909880"/>
            <a:ext cx="9490320" cy="3173400"/>
          </a:xfrm>
          <a:prstGeom prst="rect">
            <a:avLst/>
          </a:prstGeom>
          <a:ln w="0">
            <a:noFill/>
          </a:ln>
        </p:spPr>
      </p:pic>
      <p:sp>
        <p:nvSpPr>
          <p:cNvPr id="161" name="Rettangolo 5"/>
          <p:cNvSpPr/>
          <p:nvPr/>
        </p:nvSpPr>
        <p:spPr>
          <a:xfrm>
            <a:off x="5040360" y="4614840"/>
            <a:ext cx="3492360" cy="31752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ttangolo 6"/>
          <p:cNvSpPr/>
          <p:nvPr/>
        </p:nvSpPr>
        <p:spPr>
          <a:xfrm>
            <a:off x="6072120" y="5724360"/>
            <a:ext cx="2732040" cy="3160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1" descr=""/>
          <p:cNvPicPr/>
          <p:nvPr/>
        </p:nvPicPr>
        <p:blipFill>
          <a:blip r:embed="rId1"/>
          <a:stretch/>
        </p:blipFill>
        <p:spPr>
          <a:xfrm>
            <a:off x="763560" y="-14400"/>
            <a:ext cx="855180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" descr=""/>
          <p:cNvPicPr/>
          <p:nvPr/>
        </p:nvPicPr>
        <p:blipFill>
          <a:blip r:embed="rId1"/>
          <a:stretch/>
        </p:blipFill>
        <p:spPr>
          <a:xfrm>
            <a:off x="71280" y="2152800"/>
            <a:ext cx="10009440" cy="46368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"/>
          <p:cNvPicPr/>
          <p:nvPr/>
        </p:nvPicPr>
        <p:blipFill>
          <a:blip r:embed="rId2"/>
          <a:stretch/>
        </p:blipFill>
        <p:spPr>
          <a:xfrm>
            <a:off x="1149480" y="287280"/>
            <a:ext cx="7700760" cy="165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1" descr=""/>
          <p:cNvPicPr/>
          <p:nvPr/>
        </p:nvPicPr>
        <p:blipFill>
          <a:blip r:embed="rId1"/>
          <a:stretch/>
        </p:blipFill>
        <p:spPr>
          <a:xfrm>
            <a:off x="1020600" y="82440"/>
            <a:ext cx="7829640" cy="42894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"/>
          <p:cNvPicPr/>
          <p:nvPr/>
        </p:nvPicPr>
        <p:blipFill>
          <a:blip r:embed="rId2"/>
          <a:stretch/>
        </p:blipFill>
        <p:spPr>
          <a:xfrm>
            <a:off x="1030320" y="4371840"/>
            <a:ext cx="7819920" cy="321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" descr=""/>
          <p:cNvPicPr/>
          <p:nvPr/>
        </p:nvPicPr>
        <p:blipFill>
          <a:blip r:embed="rId1"/>
          <a:stretch/>
        </p:blipFill>
        <p:spPr>
          <a:xfrm>
            <a:off x="701640" y="1979640"/>
            <a:ext cx="2949480" cy="1987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"/>
          <p:cNvPicPr/>
          <p:nvPr/>
        </p:nvPicPr>
        <p:blipFill>
          <a:blip r:embed="rId2"/>
          <a:stretch/>
        </p:blipFill>
        <p:spPr>
          <a:xfrm>
            <a:off x="5238720" y="1908000"/>
            <a:ext cx="2970360" cy="2087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"/>
          <p:cNvPicPr/>
          <p:nvPr/>
        </p:nvPicPr>
        <p:blipFill>
          <a:blip r:embed="rId3"/>
          <a:stretch/>
        </p:blipFill>
        <p:spPr>
          <a:xfrm>
            <a:off x="0" y="44280"/>
            <a:ext cx="10080720" cy="164808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4"/>
          <p:cNvSpPr/>
          <p:nvPr/>
        </p:nvSpPr>
        <p:spPr>
          <a:xfrm>
            <a:off x="5256360" y="4067280"/>
            <a:ext cx="32526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Riduzione dell'espressione di COX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595440" y="3995640"/>
            <a:ext cx="325116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Incremento della plasticità sinap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" descr=""/>
          <p:cNvPicPr/>
          <p:nvPr/>
        </p:nvPicPr>
        <p:blipFill>
          <a:blip r:embed="rId4"/>
          <a:stretch/>
        </p:blipFill>
        <p:spPr>
          <a:xfrm>
            <a:off x="482760" y="5148360"/>
            <a:ext cx="8878680" cy="203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1" descr=""/>
          <p:cNvPicPr/>
          <p:nvPr/>
        </p:nvPicPr>
        <p:blipFill>
          <a:blip r:embed="rId1"/>
          <a:stretch/>
        </p:blipFill>
        <p:spPr>
          <a:xfrm>
            <a:off x="46080" y="2430360"/>
            <a:ext cx="9986760" cy="3651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" descr=""/>
          <p:cNvPicPr/>
          <p:nvPr/>
        </p:nvPicPr>
        <p:blipFill>
          <a:blip r:embed="rId2"/>
          <a:stretch/>
        </p:blipFill>
        <p:spPr>
          <a:xfrm>
            <a:off x="1038240" y="208080"/>
            <a:ext cx="7812000" cy="1385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"/>
          <p:cNvPicPr/>
          <p:nvPr/>
        </p:nvPicPr>
        <p:blipFill>
          <a:blip r:embed="rId3"/>
          <a:stretch/>
        </p:blipFill>
        <p:spPr>
          <a:xfrm>
            <a:off x="6946920" y="6954840"/>
            <a:ext cx="2809800" cy="24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ttangolo 1"/>
          <p:cNvSpPr/>
          <p:nvPr/>
        </p:nvSpPr>
        <p:spPr>
          <a:xfrm>
            <a:off x="792000" y="395280"/>
            <a:ext cx="835200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Conclusio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CasellaDiTesto 2"/>
          <p:cNvSpPr/>
          <p:nvPr/>
        </p:nvSpPr>
        <p:spPr>
          <a:xfrm>
            <a:off x="503280" y="2050920"/>
            <a:ext cx="914544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terapia con anticolinesterasici è generalmente indicata nelle fasi precoci o moderate di malatt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CasellaDiTesto 3"/>
          <p:cNvSpPr/>
          <p:nvPr/>
        </p:nvSpPr>
        <p:spPr>
          <a:xfrm>
            <a:off x="503280" y="2884320"/>
            <a:ext cx="91454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memantina trova indicazione nelle forme più sev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CasellaDiTesto 4"/>
          <p:cNvSpPr/>
          <p:nvPr/>
        </p:nvSpPr>
        <p:spPr>
          <a:xfrm>
            <a:off x="503280" y="3532320"/>
            <a:ext cx="914544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terapia farmacologica va valutata non solo sulla base della severità di malattia, ma anche sull’effica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CasellaDiTesto 5"/>
          <p:cNvSpPr/>
          <p:nvPr/>
        </p:nvSpPr>
        <p:spPr>
          <a:xfrm>
            <a:off x="503280" y="4395960"/>
            <a:ext cx="914544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 sintomi non cognitivi si presentano maggiormente nelle fasi avanzate, quando spesso il paziente richiede anche l’istituzionalizz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CasellaDiTesto 6"/>
          <p:cNvSpPr/>
          <p:nvPr/>
        </p:nvSpPr>
        <p:spPr>
          <a:xfrm>
            <a:off x="503280" y="5261040"/>
            <a:ext cx="914544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dieta mediterranea può essere considerata una terapia valida anche nel paziente istituzionalizzato con patologia sev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1" descr=""/>
          <p:cNvPicPr/>
          <p:nvPr/>
        </p:nvPicPr>
        <p:blipFill>
          <a:blip r:embed="rId1"/>
          <a:stretch/>
        </p:blipFill>
        <p:spPr>
          <a:xfrm>
            <a:off x="1935000" y="1469880"/>
            <a:ext cx="6207120" cy="60897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" descr=""/>
          <p:cNvPicPr/>
          <p:nvPr/>
        </p:nvPicPr>
        <p:blipFill>
          <a:blip r:embed="rId2"/>
          <a:stretch/>
        </p:blipFill>
        <p:spPr>
          <a:xfrm>
            <a:off x="434880" y="33480"/>
            <a:ext cx="9207720" cy="1365120"/>
          </a:xfrm>
          <a:prstGeom prst="rect">
            <a:avLst/>
          </a:prstGeom>
          <a:ln w="0">
            <a:noFill/>
          </a:ln>
        </p:spPr>
      </p:pic>
      <p:sp>
        <p:nvSpPr>
          <p:cNvPr id="185" name="Rettangolo 1"/>
          <p:cNvSpPr/>
          <p:nvPr/>
        </p:nvSpPr>
        <p:spPr>
          <a:xfrm>
            <a:off x="2376360" y="1636560"/>
            <a:ext cx="5765760" cy="4143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ttangolo 4"/>
          <p:cNvSpPr/>
          <p:nvPr/>
        </p:nvSpPr>
        <p:spPr>
          <a:xfrm>
            <a:off x="2376360" y="2141640"/>
            <a:ext cx="5765760" cy="4143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ttangolo 5"/>
          <p:cNvSpPr/>
          <p:nvPr/>
        </p:nvSpPr>
        <p:spPr>
          <a:xfrm>
            <a:off x="2376360" y="3203640"/>
            <a:ext cx="5765760" cy="4143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ttangolo 6"/>
          <p:cNvSpPr/>
          <p:nvPr/>
        </p:nvSpPr>
        <p:spPr>
          <a:xfrm>
            <a:off x="2376360" y="4229280"/>
            <a:ext cx="5765760" cy="55872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ttangolo 7"/>
          <p:cNvSpPr/>
          <p:nvPr/>
        </p:nvSpPr>
        <p:spPr>
          <a:xfrm>
            <a:off x="2376360" y="7093080"/>
            <a:ext cx="5765760" cy="4143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719280" y="793800"/>
            <a:ext cx="8785080" cy="600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AutoShape 2"/>
          <p:cNvSpPr/>
          <p:nvPr/>
        </p:nvSpPr>
        <p:spPr>
          <a:xfrm>
            <a:off x="155520" y="-1332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4"/>
          <p:cNvSpPr/>
          <p:nvPr/>
        </p:nvSpPr>
        <p:spPr>
          <a:xfrm>
            <a:off x="307800" y="19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6"/>
          <p:cNvSpPr/>
          <p:nvPr/>
        </p:nvSpPr>
        <p:spPr>
          <a:xfrm>
            <a:off x="460440" y="1713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10" descr="Risultati immagini per Friedrich Nietzsche torino"/>
          <p:cNvPicPr/>
          <p:nvPr/>
        </p:nvPicPr>
        <p:blipFill>
          <a:blip r:embed="rId1"/>
          <a:stretch/>
        </p:blipFill>
        <p:spPr>
          <a:xfrm>
            <a:off x="31680" y="-133200"/>
            <a:ext cx="10049040" cy="6216480"/>
          </a:xfrm>
          <a:prstGeom prst="rect">
            <a:avLst/>
          </a:prstGeom>
          <a:ln w="0">
            <a:noFill/>
          </a:ln>
        </p:spPr>
      </p:pic>
      <p:sp>
        <p:nvSpPr>
          <p:cNvPr id="194" name="Rettangolo 5"/>
          <p:cNvSpPr/>
          <p:nvPr/>
        </p:nvSpPr>
        <p:spPr>
          <a:xfrm>
            <a:off x="460440" y="6100920"/>
            <a:ext cx="9043920" cy="14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Nell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'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more è sempre un po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' 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di demenza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. 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Ma anche nella demenza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è sempre un po' di rag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Friedrich Nietzs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"/>
          <p:cNvPicPr/>
          <p:nvPr/>
        </p:nvPicPr>
        <p:blipFill>
          <a:blip r:embed="rId1"/>
          <a:stretch/>
        </p:blipFill>
        <p:spPr>
          <a:xfrm>
            <a:off x="792000" y="133200"/>
            <a:ext cx="8641080" cy="732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"/>
          <p:cNvSpPr/>
          <p:nvPr/>
        </p:nvSpPr>
        <p:spPr>
          <a:xfrm>
            <a:off x="673200" y="324000"/>
            <a:ext cx="856764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Arial"/>
              </a:rPr>
              <a:t>Tipi più comuni di Demenza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"/>
          <p:cNvSpPr/>
          <p:nvPr/>
        </p:nvSpPr>
        <p:spPr>
          <a:xfrm>
            <a:off x="673200" y="2746440"/>
            <a:ext cx="8567640" cy="45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lzheimer's diseas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appresenta la forma più comune di demenz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ascular Dement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mentia with Lewy bodi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DLB) è una forma di demenza che condivide alcune caratteristiche della malattia di Alzheimer e di Parkin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ronto-temporal dementi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è una forma di demenza che coinvolge i lobi cerebrali frontali e temporali ed è caratterizzata da alterazioni comportamentali, emotive e del linguagg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515880" y="2111400"/>
            <a:ext cx="4998960" cy="46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rontal Lobe: Language, planning, organising, learning tasks, regulating behaviour, initiating and stopping actions, person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arietal Lobe: remembering the sequence of actions, body sense, calculations, sentence construction, problems interpreting visual information e.g not recognising people, locating ob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ccipital Lobe: Process information about colour , shapes and mov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mporal Lobe; Remembering recent events, learning new information, visual memory (faces) verbal memory (names) atten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rcRect l="16045" t="32144" r="15161" b="11223"/>
          <a:stretch/>
        </p:blipFill>
        <p:spPr>
          <a:xfrm>
            <a:off x="5675400" y="3144960"/>
            <a:ext cx="4200480" cy="26254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647640" y="684360"/>
            <a:ext cx="856764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Arial"/>
              </a:rPr>
              <a:t>Differenti aree coinvolt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"/>
          <p:cNvPicPr/>
          <p:nvPr/>
        </p:nvPicPr>
        <p:blipFill>
          <a:blip r:embed="rId1"/>
          <a:stretch/>
        </p:blipFill>
        <p:spPr>
          <a:xfrm>
            <a:off x="1363680" y="2325600"/>
            <a:ext cx="7620120" cy="30006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2"/>
          <p:cNvSpPr/>
          <p:nvPr/>
        </p:nvSpPr>
        <p:spPr>
          <a:xfrm>
            <a:off x="673200" y="622440"/>
            <a:ext cx="856764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rogressione della demen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" descr=""/>
          <p:cNvPicPr/>
          <p:nvPr/>
        </p:nvPicPr>
        <p:blipFill>
          <a:blip r:embed="rId1"/>
          <a:stretch/>
        </p:blipFill>
        <p:spPr>
          <a:xfrm>
            <a:off x="1947960" y="576360"/>
            <a:ext cx="6476760" cy="34671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2"/>
          <p:cNvSpPr/>
          <p:nvPr/>
        </p:nvSpPr>
        <p:spPr>
          <a:xfrm>
            <a:off x="1247760" y="4535640"/>
            <a:ext cx="793116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 pazienti con demenza sono diversi tra loro, ma i farmaci variano poco a seconda delle fasi della malatt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280" y="418680"/>
            <a:ext cx="85676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4900" spc="-1" strike="noStrike">
                <a:solidFill>
                  <a:srgbClr val="000000"/>
                </a:solidFill>
                <a:latin typeface="Arial"/>
              </a:rPr>
              <a:t>The role of medications in the management of dementia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60360" y="2927520"/>
            <a:ext cx="9360000" cy="21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it-IT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500" spc="-1" strike="noStrike">
                <a:solidFill>
                  <a:srgbClr val="000000"/>
                </a:solidFill>
                <a:latin typeface="Arial"/>
              </a:rPr>
              <a:t>Curare la malatti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it-IT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500" spc="-1" strike="noStrike">
                <a:solidFill>
                  <a:srgbClr val="000000"/>
                </a:solidFill>
                <a:latin typeface="Arial"/>
              </a:rPr>
              <a:t>Ritardare la progression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it-IT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500" spc="-1" strike="noStrike">
                <a:solidFill>
                  <a:srgbClr val="000000"/>
                </a:solidFill>
                <a:latin typeface="Arial"/>
              </a:rPr>
              <a:t>Trattare i sintomi primari e secondari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1-23T14:31:28Z</dcterms:created>
  <dc:creator>Gianluca Isaia</dc:creator>
  <dc:description/>
  <dc:language>en-US</dc:language>
  <cp:lastModifiedBy>gianluca</cp:lastModifiedBy>
  <dcterms:modified xsi:type="dcterms:W3CDTF">2020-01-28T21:10:40Z</dcterms:modified>
  <cp:revision>19</cp:revision>
  <dc:subject/>
  <dc:title>Presentazione standard di PowerPoint</dc:title>
</cp:coreProperties>
</file>